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11FB-B536-4C2E-9D88-0C36FF6B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305-E976-4445-9242-992FBE04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B540-16A3-4F41-822B-A47BAB75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17C-F13C-467F-8897-2CD9DB6F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4D68-018B-49A5-A4AE-2A253387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FFEB-9E8B-4B94-9394-A7805BCB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559C-C077-491C-829E-5BC4CB09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941D-91B9-4BB1-9F94-329115DB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9AC7-F115-4384-9B1F-1A9444DB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F98B-86DE-4033-8854-05FA2665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A378-6261-43E1-B1CE-8A541AEA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AA2-6087-4796-92EF-C8B135EC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7ED9-A67D-451D-BD0F-4F9870F3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6944-9995-4C7C-8520-5B3CECF7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FC09-BF10-4B64-B677-78DA3649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C5EB-3391-492E-A9CB-9C85BC2B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83C4-5FEA-46AF-BF54-BF3C1BF8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41F9-7F21-465C-8D7F-94C7C333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6BED-3853-4F83-B7C6-51AB44FD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A1B-BFAA-4391-B650-659A63AC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B08-FD76-4E03-8893-7074CF9E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2C87-9E94-4D5A-9727-4C1ACDE2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7E84-47B7-4DCC-B6C2-09FBD964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BEF-4F16-44F0-A2D8-82217C4F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9393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93939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041D-5C9F-41F8-982E-4FCBFEE5AEDB}" type="slidenum">
              <a:rPr b="0" lang="zh-CN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93939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93939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382C-B186-45E8-9124-3F9474162B05}" type="slidenum">
              <a:rPr b="0" lang="zh-CN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304920"/>
            <a:ext cx="7391520" cy="59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2431"/>
                </a:solidFill>
                <a:latin typeface="Times New Roman"/>
                <a:ea typeface="黑体"/>
              </a:rPr>
              <a:t>猜猜看：</a:t>
            </a:r>
            <a:endParaRPr b="0" lang="en-US" sz="44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我不是你的影子，但我与你亲密无间。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我不是机器，但我全心全意听命于你。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对成功的人来说，－－我是功臣；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对失败的人来说，－－我是罪人。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培训我，－－我会为你赢得整个人生；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放纵我，－－我会毁掉你的终身。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我到底是谁？－－我平凡得让你惊奇。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（      ）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5638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2431"/>
                </a:solidFill>
                <a:latin typeface="Times New Roman"/>
                <a:ea typeface="黑体"/>
              </a:rPr>
              <a:t>习惯</a:t>
            </a:r>
            <a:endParaRPr b="0" lang="en-US" sz="3200" spc="-1" strike="noStrike">
              <a:solidFill>
                <a:srgbClr val="39393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19320" y="380880"/>
            <a:ext cx="8381880" cy="61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及时订正错误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整理错题集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每天必须完成记忆任务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按时完成作业，把所学的教学内容弄懂弄通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及时复习、总结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自己留作业的习惯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阅读、写作的习惯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</a:t>
            </a:r>
            <a:r>
              <a:rPr b="0" lang="zh-CN" sz="2800" spc="-1" strike="noStrike" u="sng">
                <a:solidFill>
                  <a:srgbClr val="663300"/>
                </a:solidFill>
                <a:uFillTx/>
                <a:latin typeface="宋体"/>
                <a:hlinkClick r:id="rId1" action="ppaction://hlinksldjump"/>
              </a:rPr>
              <a:t>劳逸结合的习惯</a:t>
            </a:r>
            <a:r>
              <a:rPr b="0" lang="zh-CN" sz="2800" spc="-1" strike="noStrike" u="sng">
                <a:solidFill>
                  <a:srgbClr val="663300"/>
                </a:solidFill>
                <a:uFillTx/>
                <a:latin typeface="Times New Roman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1080" y="2133720"/>
            <a:ext cx="5791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说到做到，坚定不移。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控制时空，约束自己。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偶有偏离，及时调整。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持之以恒，惯性运动。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91440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3300"/>
                </a:solidFill>
                <a:latin typeface="华文新魏"/>
                <a:ea typeface="华文新魏"/>
              </a:rPr>
              <a:t>、怎样培养良好的学习习惯？</a:t>
            </a:r>
            <a:endParaRPr b="0" lang="en-US" sz="36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93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343400" y="4648320"/>
            <a:ext cx="762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93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8380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2431"/>
                </a:solidFill>
                <a:latin typeface="宋体"/>
                <a:ea typeface="黑体"/>
              </a:rPr>
              <a:t>与家长一起制定一份课外学习时间表 </a:t>
            </a:r>
            <a:endParaRPr b="0" lang="en-US" sz="3600" spc="-1" strike="noStrike">
              <a:solidFill>
                <a:srgbClr val="39393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" y="4689360"/>
            <a:ext cx="91440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Times New Roman"/>
              </a:rPr>
              <a:t> </a:t>
            </a:r>
            <a:endParaRPr b="0" lang="en-US" sz="11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Times New Roman"/>
              </a:rPr>
              <a:t> </a:t>
            </a:r>
            <a:endParaRPr b="0" lang="en-US" sz="11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Times New Roman"/>
              </a:rPr>
              <a:t> </a:t>
            </a:r>
            <a:endParaRPr b="0" lang="en-US" sz="11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Times New Roman"/>
              </a:rPr>
              <a:t> </a:t>
            </a:r>
            <a:endParaRPr b="0" lang="en-US" sz="11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Times New Roman"/>
              </a:rPr>
              <a:t> </a:t>
            </a:r>
            <a:endParaRPr b="0" lang="en-US" sz="11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Times New Roman"/>
              </a:rPr>
              <a:t> </a:t>
            </a:r>
            <a:endParaRPr b="0" lang="en-US" sz="11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93939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71600" y="2209680"/>
            <a:ext cx="7543440" cy="3028680"/>
            <a:chOff x="1371600" y="2209680"/>
            <a:chExt cx="7543440" cy="3028680"/>
          </a:xfrm>
        </p:grpSpPr>
        <p:grpSp>
          <p:nvGrpSpPr>
            <p:cNvPr id="114" name=""/>
            <p:cNvGrpSpPr/>
            <p:nvPr/>
          </p:nvGrpSpPr>
          <p:grpSpPr>
            <a:xfrm>
              <a:off x="1378800" y="2214360"/>
              <a:ext cx="7527960" cy="3019320"/>
              <a:chOff x="1378800" y="2214360"/>
              <a:chExt cx="7527960" cy="301932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1378800" y="2214360"/>
                <a:ext cx="1553400" cy="503280"/>
                <a:chOff x="1378800" y="2214360"/>
                <a:chExt cx="1553400" cy="5032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378800" y="2214360"/>
                  <a:ext cx="155340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时间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378800" y="2214360"/>
                  <a:ext cx="155340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932560" y="2214360"/>
                <a:ext cx="1447920" cy="503280"/>
                <a:chOff x="2932560" y="2214360"/>
                <a:chExt cx="1447920" cy="503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932560" y="2214360"/>
                  <a:ext cx="144792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学习内容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932560" y="2214360"/>
                  <a:ext cx="144792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380840" y="2214360"/>
                <a:ext cx="1629000" cy="503280"/>
                <a:chOff x="4380840" y="2214360"/>
                <a:chExt cx="1629000" cy="503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380840" y="2214360"/>
                  <a:ext cx="162900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学习方式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380840" y="2214360"/>
                  <a:ext cx="162900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6010560" y="2214360"/>
                <a:ext cx="1447920" cy="503280"/>
                <a:chOff x="6010560" y="2214360"/>
                <a:chExt cx="1447920" cy="5032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010560" y="2214360"/>
                  <a:ext cx="144792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学习效果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010560" y="2214360"/>
                  <a:ext cx="144792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7458840" y="2214360"/>
                <a:ext cx="1447920" cy="503280"/>
                <a:chOff x="7458840" y="2214360"/>
                <a:chExt cx="1447920" cy="5032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7458840" y="2214360"/>
                  <a:ext cx="144792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其他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458840" y="2214360"/>
                  <a:ext cx="144792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378800" y="2717640"/>
                <a:ext cx="1553400" cy="503280"/>
                <a:chOff x="1378800" y="2717640"/>
                <a:chExt cx="1553400" cy="5032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1378800" y="2717640"/>
                  <a:ext cx="155340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 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78800" y="2717640"/>
                  <a:ext cx="155340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2932560" y="2717640"/>
                <a:ext cx="1447920" cy="503280"/>
                <a:chOff x="2932560" y="2717640"/>
                <a:chExt cx="1447920" cy="5032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2932560" y="2717640"/>
                  <a:ext cx="144792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 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932560" y="2717640"/>
                  <a:ext cx="144792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4380840" y="2717640"/>
                <a:ext cx="1629000" cy="503280"/>
                <a:chOff x="4380840" y="2717640"/>
                <a:chExt cx="1629000" cy="5032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380840" y="2717640"/>
                  <a:ext cx="162900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 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380840" y="2717640"/>
                  <a:ext cx="162900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010560" y="2717640"/>
                <a:ext cx="1447920" cy="503280"/>
                <a:chOff x="6010560" y="2717640"/>
                <a:chExt cx="1447920" cy="5032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010560" y="2717640"/>
                  <a:ext cx="144792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 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10560" y="2717640"/>
                  <a:ext cx="144792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7458840" y="2717640"/>
                <a:ext cx="1447920" cy="503280"/>
                <a:chOff x="7458840" y="2717640"/>
                <a:chExt cx="1447920" cy="5032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7458840" y="2717640"/>
                  <a:ext cx="144792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 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458840" y="2717640"/>
                  <a:ext cx="144792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1378800" y="3220920"/>
                <a:ext cx="1553400" cy="503280"/>
                <a:chOff x="1378800" y="3220920"/>
                <a:chExt cx="1553400" cy="5032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378800" y="3220920"/>
                  <a:ext cx="155340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 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378800" y="3220920"/>
                  <a:ext cx="155340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2932560" y="3220920"/>
                <a:ext cx="1447920" cy="503280"/>
                <a:chOff x="2932560" y="3220920"/>
                <a:chExt cx="1447920" cy="5032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932560" y="3220920"/>
                  <a:ext cx="144792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 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932560" y="3220920"/>
                  <a:ext cx="144792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4380840" y="3220920"/>
                <a:ext cx="1629000" cy="503280"/>
                <a:chOff x="4380840" y="3220920"/>
                <a:chExt cx="1629000" cy="5032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380840" y="3220920"/>
                  <a:ext cx="162900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 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380840" y="3220920"/>
                  <a:ext cx="162900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6010560" y="3220920"/>
                <a:ext cx="1447920" cy="503280"/>
                <a:chOff x="6010560" y="3220920"/>
                <a:chExt cx="1447920" cy="5032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6010560" y="3220920"/>
                  <a:ext cx="144792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 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010560" y="3220920"/>
                  <a:ext cx="144792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7458840" y="3220920"/>
                <a:ext cx="1447920" cy="503280"/>
                <a:chOff x="7458840" y="3220920"/>
                <a:chExt cx="1447920" cy="5032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7458840" y="3220920"/>
                  <a:ext cx="144792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 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458840" y="3220920"/>
                  <a:ext cx="144792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1378800" y="3724200"/>
                <a:ext cx="1553400" cy="502920"/>
                <a:chOff x="1378800" y="3724200"/>
                <a:chExt cx="1553400" cy="5029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378800" y="3724200"/>
                  <a:ext cx="1553400" cy="502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 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378800" y="3724200"/>
                  <a:ext cx="1553400" cy="502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932560" y="3724200"/>
                <a:ext cx="1447920" cy="502920"/>
                <a:chOff x="2932560" y="3724200"/>
                <a:chExt cx="1447920" cy="5029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932560" y="3724200"/>
                  <a:ext cx="1447920" cy="502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 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932560" y="3724200"/>
                  <a:ext cx="1447920" cy="502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380840" y="3724200"/>
                <a:ext cx="1629000" cy="502920"/>
                <a:chOff x="4380840" y="3724200"/>
                <a:chExt cx="1629000" cy="502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380840" y="3724200"/>
                  <a:ext cx="1629000" cy="502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 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380840" y="3724200"/>
                  <a:ext cx="1629000" cy="502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6010560" y="3724200"/>
                <a:ext cx="1447920" cy="502920"/>
                <a:chOff x="6010560" y="3724200"/>
                <a:chExt cx="1447920" cy="5029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010560" y="3724200"/>
                  <a:ext cx="1447920" cy="502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 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010560" y="3724200"/>
                  <a:ext cx="1447920" cy="502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7458840" y="3724200"/>
                <a:ext cx="1447920" cy="502920"/>
                <a:chOff x="7458840" y="3724200"/>
                <a:chExt cx="1447920" cy="5029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7458840" y="3724200"/>
                  <a:ext cx="1447920" cy="502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 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458840" y="3724200"/>
                  <a:ext cx="1447920" cy="502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1378800" y="4227120"/>
                <a:ext cx="1553400" cy="503280"/>
                <a:chOff x="1378800" y="4227120"/>
                <a:chExt cx="1553400" cy="5032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378800" y="4227120"/>
                  <a:ext cx="155340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 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378800" y="4227120"/>
                  <a:ext cx="155340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2932560" y="4227120"/>
                <a:ext cx="1447920" cy="503280"/>
                <a:chOff x="2932560" y="4227120"/>
                <a:chExt cx="1447920" cy="5032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932560" y="4227120"/>
                  <a:ext cx="144792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 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932560" y="4227120"/>
                  <a:ext cx="144792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380840" y="4227120"/>
                <a:ext cx="1629000" cy="503280"/>
                <a:chOff x="4380840" y="4227120"/>
                <a:chExt cx="1629000" cy="5032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380840" y="4227120"/>
                  <a:ext cx="162900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 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380840" y="4227120"/>
                  <a:ext cx="162900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6010560" y="4227120"/>
                <a:ext cx="1447920" cy="503280"/>
                <a:chOff x="6010560" y="4227120"/>
                <a:chExt cx="1447920" cy="5032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010560" y="4227120"/>
                  <a:ext cx="144792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 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010560" y="4227120"/>
                  <a:ext cx="144792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7458840" y="4227120"/>
                <a:ext cx="1447920" cy="503280"/>
                <a:chOff x="7458840" y="4227120"/>
                <a:chExt cx="1447920" cy="5032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7458840" y="4227120"/>
                  <a:ext cx="144792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 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458840" y="4227120"/>
                  <a:ext cx="144792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1378800" y="4730400"/>
                <a:ext cx="7527960" cy="503280"/>
                <a:chOff x="1378800" y="4730400"/>
                <a:chExt cx="7527960" cy="5032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1378800" y="4730400"/>
                  <a:ext cx="752796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66"/>
                      </a:solidFill>
                      <a:latin typeface="宋体"/>
                    </a:rPr>
                    <a:t>制定人：            执行人：          监督人：</a:t>
                  </a: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378800" y="4730400"/>
                  <a:ext cx="7527960" cy="50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39393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3" name=""/>
            <p:cNvSpPr/>
            <p:nvPr/>
          </p:nvSpPr>
          <p:spPr>
            <a:xfrm>
              <a:off x="1371600" y="2209680"/>
              <a:ext cx="7543440" cy="3028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39393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190512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6666"/>
                </a:solidFill>
                <a:latin typeface="宋体"/>
              </a:rPr>
              <a:t>教育归根结底是培养习惯，行为养成</a:t>
            </a:r>
            <a:endParaRPr b="0" lang="en-US" sz="32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宋体"/>
              </a:rPr>
              <a:t>习惯，习惯形成品质，品质决定命运。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  <a:ea typeface="黑体"/>
              </a:rPr>
              <a:t>       </a:t>
            </a:r>
            <a:endParaRPr b="0" lang="en-US" sz="3200" spc="-1" strike="noStrike">
              <a:solidFill>
                <a:srgbClr val="39393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2431"/>
                </a:solidFill>
                <a:latin typeface="Times New Roman"/>
                <a:ea typeface="黑体"/>
              </a:rPr>
              <a:t>结束语：</a:t>
            </a:r>
            <a:endParaRPr b="0" lang="en-US" sz="4400" spc="-1" strike="noStrike">
              <a:solidFill>
                <a:srgbClr val="39393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411480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939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62120" y="53352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2431"/>
                </a:solidFill>
                <a:latin typeface="Arial"/>
                <a:ea typeface="黑体"/>
              </a:rPr>
              <a:t>歌曲</a:t>
            </a:r>
            <a:r>
              <a:rPr b="0" lang="zh-CN" sz="4000" spc="-1" strike="noStrike">
                <a:solidFill>
                  <a:srgbClr val="dc2431"/>
                </a:solidFill>
                <a:latin typeface="Arial"/>
                <a:ea typeface="黑体"/>
              </a:rPr>
              <a:t>：</a:t>
            </a:r>
            <a:endParaRPr b="0" lang="en-US" sz="4000" spc="-1" strike="noStrike">
              <a:solidFill>
                <a:srgbClr val="39393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08000" y="2781360"/>
            <a:ext cx="47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93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38280" y="533520"/>
            <a:ext cx="329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Arial"/>
                <a:ea typeface="华文新魏"/>
              </a:rPr>
              <a:t>《读书郎》</a:t>
            </a:r>
            <a:endParaRPr b="0" lang="en-US" sz="4800" spc="-1" strike="noStrike">
              <a:solidFill>
                <a:srgbClr val="39393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1889280"/>
            <a:ext cx="8839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Geneva"/>
              </a:rPr>
              <a:t>小呀么小儿郎啊，背着那书包上学堂，</a:t>
            </a:r>
            <a:endParaRPr b="0" lang="en-US" sz="32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Geneva"/>
              </a:rPr>
              <a:t>不怕太阳晒，也不怕那风雨狂，</a:t>
            </a:r>
            <a:endParaRPr b="0" lang="en-US" sz="32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Geneva"/>
              </a:rPr>
              <a:t>只怕先生骂我懒，没有学问无颜见爹娘，</a:t>
            </a:r>
            <a:endParaRPr b="0" lang="en-US" sz="32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Geneva"/>
              </a:rPr>
              <a:t>叮哩咯呛咯哩啷哩咯呛，没有学问无颜见爹娘。</a:t>
            </a:r>
            <a:br>
              <a:rPr sz="3200"/>
            </a:br>
            <a:endParaRPr b="0" lang="en-US" sz="3200" spc="-1" strike="noStrike">
              <a:solidFill>
                <a:srgbClr val="393939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00200" y="1676520"/>
            <a:ext cx="7238880" cy="20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6480">
                  <a:solidFill>
                    <a:srgbClr val="cc99ff"/>
                  </a:solidFill>
                  <a:miter/>
                </a:ln>
                <a:solidFill>
                  <a:srgbClr val="dc2431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养成良好的学习习惯 </a:t>
            </a:r>
            <a:endParaRPr b="1" lang="en-US" sz="6000" spc="1" strike="noStrike">
              <a:ln w="6480">
                <a:solidFill>
                  <a:srgbClr val="cc99ff"/>
                </a:solidFill>
                <a:miter/>
              </a:ln>
              <a:solidFill>
                <a:srgbClr val="dc2431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0"/>
            <a:ext cx="6815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dc2431"/>
                </a:solidFill>
                <a:latin typeface="黑体"/>
                <a:ea typeface="黑体"/>
              </a:rPr>
              <a:t>学习习惯测试</a:t>
            </a:r>
            <a:endParaRPr b="0" lang="en-US" sz="3600" spc="-1" strike="noStrike">
              <a:solidFill>
                <a:srgbClr val="39393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762120"/>
            <a:ext cx="8077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学习时间不固定（     ）</a:t>
            </a:r>
            <a:br>
              <a:rPr sz="2800"/>
            </a:b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课堂上注意力不集中；（     ）</a:t>
            </a:r>
            <a:br>
              <a:rPr sz="2800"/>
            </a:b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学习目标不明确；（     ）</a:t>
            </a:r>
            <a:br>
              <a:rPr sz="2800"/>
            </a:b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不爱用工具书，马马虎虎地应付学习；（     ）</a:t>
            </a:r>
            <a:br>
              <a:rPr sz="2800"/>
            </a:b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不懂不会也不问；（     ）</a:t>
            </a:r>
            <a:br>
              <a:rPr sz="2800"/>
            </a:b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学习时沉迷于空想；（     ）</a:t>
            </a:r>
            <a:br>
              <a:rPr sz="2800"/>
            </a:b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快下课时就听不进去了，开始想着课后的娱乐活动；（     ）</a:t>
            </a:r>
            <a:br>
              <a:rPr sz="2800"/>
            </a:b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做作业前不温习，做完作业不相信自己，总要找人对对答案；（     ）</a:t>
            </a:r>
            <a:br>
              <a:rPr sz="2800"/>
            </a:b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作业本、作文本、考试卷发到手，看看分数，扔到一边，不认真分析检查；（     ）</a:t>
            </a:r>
            <a:br>
              <a:rPr sz="2800"/>
            </a:b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做作业或复习时，常做一些小动作；（     ）</a:t>
            </a:r>
            <a:br>
              <a:rPr sz="2800"/>
            </a:b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19320" y="569880"/>
            <a:ext cx="79246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遇到好电视，或者一玩起来，就忘记做作业；（     ）</a:t>
            </a:r>
            <a:br>
              <a:rPr sz="2800"/>
            </a:b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边做作业，边听音乐或者看电视；（    ）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14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学习用具乱扔，用时找不到；（     ）</a:t>
            </a:r>
            <a:br>
              <a:rPr sz="2800"/>
            </a:b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平时不复习，考前开夜车；（      ）</a:t>
            </a:r>
            <a:br>
              <a:rPr sz="2800"/>
            </a:b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喜欢哪科学哪科，偏科；（      ）</a:t>
            </a:r>
            <a:br>
              <a:rPr sz="2800"/>
            </a:b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情绪波动大，因喜怒哀乐的情绪而影响学习；（     ）</a:t>
            </a:r>
            <a:r>
              <a:rPr b="0" lang="zh-CN" sz="2800" spc="-1" strike="noStrike">
                <a:solidFill>
                  <a:srgbClr val="006666"/>
                </a:solidFill>
                <a:latin typeface="宋体"/>
              </a:rPr>
              <a:t> 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464832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个以下</a:t>
            </a:r>
            <a:r>
              <a:rPr b="0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√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，要引起注意，立即改正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5—10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个</a:t>
            </a:r>
            <a:r>
              <a:rPr b="0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√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，得赶快制定计划，自己改正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个以上</a:t>
            </a:r>
            <a:r>
              <a:rPr b="0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√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，问题严重，请别人帮助自己改正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685800"/>
            <a:ext cx="77724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2431"/>
                </a:solidFill>
                <a:latin typeface="隶书"/>
                <a:ea typeface="黑体"/>
              </a:rPr>
              <a:t>诊断学习</a:t>
            </a:r>
            <a:r>
              <a:rPr b="1" lang="zh-CN" sz="4800" spc="-1" strike="noStrike">
                <a:solidFill>
                  <a:srgbClr val="dc2431"/>
                </a:solidFill>
                <a:latin typeface="宋体"/>
                <a:ea typeface="黑体"/>
              </a:rPr>
              <a:t>：</a:t>
            </a:r>
            <a:endParaRPr b="0" lang="en-US" sz="4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6666"/>
                </a:solidFill>
                <a:latin typeface="华文新魏"/>
                <a:ea typeface="华文新魏"/>
              </a:rPr>
              <a:t>、平时上课同学们有哪些不良听课</a:t>
            </a:r>
            <a:endParaRPr b="0" lang="en-US" sz="36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华文新魏"/>
                <a:ea typeface="华文新魏"/>
              </a:rPr>
              <a:t>习惯？</a:t>
            </a:r>
            <a:endParaRPr b="0" lang="en-US" sz="36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6666"/>
                </a:solidFill>
                <a:latin typeface="华文新魏"/>
                <a:ea typeface="华文新魏"/>
              </a:rPr>
              <a:t>、</a:t>
            </a:r>
            <a:r>
              <a:rPr b="0" lang="zh-CN" sz="3600" spc="-1" strike="noStrike" u="sng">
                <a:solidFill>
                  <a:srgbClr val="663300"/>
                </a:solidFill>
                <a:uFillTx/>
                <a:latin typeface="华文新魏"/>
                <a:ea typeface="华文新魏"/>
                <a:hlinkClick r:id="rId1" action="ppaction://hlinksldjump"/>
              </a:rPr>
              <a:t>理想的听课习惯</a:t>
            </a:r>
            <a:r>
              <a:rPr b="1" lang="zh-CN" sz="3600" spc="-1" strike="noStrike">
                <a:solidFill>
                  <a:srgbClr val="006666"/>
                </a:solidFill>
                <a:latin typeface="华文新魏"/>
                <a:ea typeface="华文新魏"/>
              </a:rPr>
              <a:t>应该是怎样的？</a:t>
            </a:r>
            <a:endParaRPr b="0" lang="en-US" sz="36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华文新魏"/>
                <a:ea typeface="华文新魏"/>
              </a:rPr>
              <a:t>    </a:t>
            </a:r>
            <a:endParaRPr b="0" lang="en-US" sz="36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93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62320" y="2286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93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520"/>
            <a:ext cx="8305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93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23623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93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609480"/>
            <a:ext cx="7543800" cy="65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2431"/>
                </a:solidFill>
                <a:latin typeface="华文新魏"/>
                <a:ea typeface="黑体"/>
              </a:rPr>
              <a:t>不良听课习惯：</a:t>
            </a:r>
            <a:endParaRPr b="0" lang="en-US" sz="36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上课没有兴趣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不认真听课，总说老师不好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记住次要内容，忽略主要内容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注意力不集中，往往因为一些小事而分心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只记简单的内容，放弃难度较大的内容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听课比较情绪化，很少关注同学的意见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</a:t>
            </a:r>
            <a:r>
              <a:rPr b="0" lang="zh-CN" sz="2800" spc="-1" strike="noStrike" u="sng">
                <a:solidFill>
                  <a:srgbClr val="663300"/>
                </a:solidFill>
                <a:uFillTx/>
                <a:latin typeface="楷体_GB2312"/>
                <a:hlinkClick r:id="rId1" action="ppaction://hlinksldjump"/>
              </a:rPr>
              <a:t>不爱动脑、不举手回答问题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3200" y="120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2431"/>
                </a:solidFill>
                <a:latin typeface="华文新魏"/>
                <a:ea typeface="黑体"/>
              </a:rPr>
              <a:t>理想的听课习惯</a:t>
            </a:r>
            <a:r>
              <a:rPr b="1" lang="zh-CN" sz="3600" spc="-1" strike="noStrike">
                <a:solidFill>
                  <a:srgbClr val="dc2431"/>
                </a:solidFill>
                <a:latin typeface="隶书"/>
                <a:ea typeface="黑体"/>
              </a:rPr>
              <a:t>：</a:t>
            </a:r>
            <a:endParaRPr b="0" lang="en-US" sz="3600" spc="-1" strike="noStrike">
              <a:solidFill>
                <a:srgbClr val="39393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762120"/>
            <a:ext cx="784872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眼  到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就是听课的时候，不仅注意黑板上老师写的内容，还要注意老师的表情、口型等，要灵活地根据实际情境运用。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口  到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一般的情况下，口到有三个需要：一是朗读需要；二是记忆需要；三是随时发问。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心  到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老师讲课的时候，只是起个引导的作用，最主要的还是靠自己思考，这就要求在听课的时候时刻都要用心。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手   到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就是我们在认真听课，积极思考的同时，要做好课堂笔记</a:t>
            </a:r>
            <a:r>
              <a:rPr b="1" lang="zh-CN" sz="2400" spc="-1" strike="noStrike">
                <a:solidFill>
                  <a:srgbClr val="006666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39393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95280" y="533520"/>
            <a:ext cx="784872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2431"/>
                </a:solidFill>
                <a:latin typeface="黑体"/>
                <a:ea typeface="黑体"/>
              </a:rPr>
              <a:t>大家谈：</a:t>
            </a:r>
            <a:endParaRPr b="0" lang="en-US" sz="4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6666"/>
                </a:solidFill>
                <a:latin typeface="华文新魏"/>
                <a:ea typeface="华文新魏"/>
              </a:rPr>
              <a:t>、学习上应该具备哪些良好的学习</a:t>
            </a:r>
            <a:endParaRPr b="0" lang="en-US" sz="36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华文新魏"/>
                <a:ea typeface="华文新魏"/>
              </a:rPr>
              <a:t>习惯？</a:t>
            </a:r>
            <a:endParaRPr b="0" lang="en-US" sz="36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6666"/>
                </a:solidFill>
                <a:latin typeface="华文新魏"/>
                <a:ea typeface="华文新魏"/>
              </a:rPr>
              <a:t>、</a:t>
            </a:r>
            <a:r>
              <a:rPr b="0" lang="zh-CN" sz="3600" spc="-1" strike="noStrike" u="sng">
                <a:solidFill>
                  <a:srgbClr val="663300"/>
                </a:solidFill>
                <a:uFillTx/>
                <a:latin typeface="华文新魏"/>
                <a:ea typeface="华文新魏"/>
                <a:hlinkClick r:id="rId1" action="ppaction://hlinksldjump"/>
              </a:rPr>
              <a:t>怎样培养良好的学习习惯？</a:t>
            </a:r>
            <a:endParaRPr b="0" lang="en-US" sz="3600" spc="-1" strike="noStrike">
              <a:solidFill>
                <a:srgbClr val="39393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11280" y="476280"/>
            <a:ext cx="7770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393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393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228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2431"/>
                </a:solidFill>
                <a:latin typeface="Arial"/>
                <a:ea typeface="黑体"/>
              </a:rPr>
              <a:t>良好的学习习惯</a:t>
            </a:r>
            <a:endParaRPr b="0" lang="en-US" sz="3600" spc="-1" strike="noStrike">
              <a:solidFill>
                <a:srgbClr val="39393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1143000"/>
            <a:ext cx="6858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制定学习计划并严格执行计划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做好预习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做好课前准备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勤于动脑，积极举手发言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做好课堂笔记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勤查工具书，不懂就问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、专心致志地学习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适应老师的习惯</a:t>
            </a:r>
            <a:endParaRPr b="0" lang="en-US" sz="2800" spc="-1" strike="noStrike">
              <a:solidFill>
                <a:srgbClr val="393939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3:18:1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4:24:53Z</dcterms:modified>
  <cp:revision>1</cp:revision>
  <dc:subject>主题班会课件(分28大类): http://shop62905894.taobao.com</dc:subject>
  <dc:title>主题班会课件(分28大类): http://shop62905894.taobao.com</dc:title>
</cp:coreProperties>
</file>